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438B9FB-C15C-4AC5-9FF1-C746D4B99A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8A77360-4C43-4E06-A9C6-D89220A506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7ED5-BBEC-42BB-ADAB-9C68CE0DD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048E-06AE-467D-9EEB-4CB3F452C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6800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9850-2EC3-41F1-B9E5-80BD92C96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25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657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25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657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EAB0-5CEF-4BD6-8453-D15DDCE66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8975-735F-4606-9355-5893E9785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9457-E462-443D-89CD-43B6CF55B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FCCC-4DE4-41A2-95E4-530886092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7394-B79B-4612-B342-4D921CA37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76520" y="6091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181D-5AF9-435D-B89C-B14E0FEFB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DEF8-F68D-404B-84A1-83E73F22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6800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11B4-F81D-4A3D-A836-33F1D838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1920-6259-4B23-BE9A-7ACA5FF3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22725-55B7-4895-9401-44A7A353BBF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97CD3-17A2-429B-AB68-552DE4312C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F5697-A1C0-4332-8602-A148223369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2" descr="npo00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800000"/>
                </a:solidFill>
                <a:latin typeface="Optima"/>
              </a:rPr>
              <a:t> </a:t>
            </a:r>
            <a:r>
              <a:rPr b="1" lang="en-GB" sz="2800" spc="-1" strike="noStrike">
                <a:solidFill>
                  <a:srgbClr val="800000"/>
                </a:solidFill>
                <a:latin typeface="Optima"/>
              </a:rPr>
              <a:t>Africa  RISING in the Ethiopian Highlands</a:t>
            </a:r>
            <a:br>
              <a:rPr sz="2800"/>
            </a:br>
            <a:endParaRPr b="0" lang="en-US" sz="28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58560" y="3213000"/>
            <a:ext cx="6513480" cy="24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2362320" y="5867280"/>
            <a:ext cx="45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Optima"/>
              </a:rPr>
              <a:t>Peter Thor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7543800" y="303120"/>
            <a:ext cx="1187280" cy="13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F0360-6E0D-4232-A16C-0237CEA78D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Timeline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anuary 2012: Project design worksh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rch 2012: Quick Win project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ril – September 2012: Quick Win projects oper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ptember 2012: Project review and planning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Quick Win Projects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219320" y="198072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ick Feeds” – ILRI / ICARDA / EIAR / ORA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ick Water” – IWMI / ILRI / Addis Ababa, Bahir Dar, Arba Minch Univers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ick Trees” – ICRAF / ILRI / EIAR / Mekele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ick Pulses” – ICARDA / EIAR / ORARI / Farm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earch Design – CIMMYT / IL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18BAC-0BD4-4471-B2E3-A490F77907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1"/>
          <p:cNvGrpSpPr/>
          <p:nvPr/>
        </p:nvGrpSpPr>
        <p:grpSpPr>
          <a:xfrm>
            <a:off x="2495520" y="1504080"/>
            <a:ext cx="5202000" cy="5155200"/>
            <a:chOff x="2495520" y="1504080"/>
            <a:chExt cx="5202000" cy="5155200"/>
          </a:xfrm>
        </p:grpSpPr>
        <p:grpSp>
          <p:nvGrpSpPr>
            <p:cNvPr id="62" name="Group 44"/>
            <p:cNvGrpSpPr/>
            <p:nvPr/>
          </p:nvGrpSpPr>
          <p:grpSpPr>
            <a:xfrm>
              <a:off x="2495520" y="1504080"/>
              <a:ext cx="5202000" cy="5155200"/>
              <a:chOff x="2495520" y="1504080"/>
              <a:chExt cx="5202000" cy="5155200"/>
            </a:xfrm>
          </p:grpSpPr>
          <p:grpSp>
            <p:nvGrpSpPr>
              <p:cNvPr id="63" name="Group 46"/>
              <p:cNvGrpSpPr/>
              <p:nvPr/>
            </p:nvGrpSpPr>
            <p:grpSpPr>
              <a:xfrm>
                <a:off x="2495520" y="1504080"/>
                <a:ext cx="5202000" cy="5155200"/>
                <a:chOff x="2495520" y="1504080"/>
                <a:chExt cx="5202000" cy="5155200"/>
              </a:xfrm>
            </p:grpSpPr>
            <p:sp>
              <p:nvSpPr>
                <p:cNvPr id="64" name="Oval 67"/>
                <p:cNvSpPr/>
                <p:nvPr/>
              </p:nvSpPr>
              <p:spPr>
                <a:xfrm>
                  <a:off x="2674800" y="1697040"/>
                  <a:ext cx="4826160" cy="4753080"/>
                </a:xfrm>
                <a:prstGeom prst="ellipse">
                  <a:avLst/>
                </a:prstGeom>
                <a:solidFill>
                  <a:srgbClr val="8eb4e3"/>
                </a:solidFill>
                <a:ln w="108000">
                  <a:solidFill>
                    <a:srgbClr val="1737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Isosceles Triangle 68"/>
                <p:cNvSpPr/>
                <p:nvPr/>
              </p:nvSpPr>
              <p:spPr>
                <a:xfrm>
                  <a:off x="2495520" y="3886200"/>
                  <a:ext cx="360360" cy="37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17375e"/>
                </a:solidFill>
                <a:ln w="25560">
                  <a:solidFill>
                    <a:srgbClr val="1737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Isosceles Triangle 69"/>
                <p:cNvSpPr/>
                <p:nvPr/>
              </p:nvSpPr>
              <p:spPr>
                <a:xfrm rot="2239800">
                  <a:off x="3178080" y="2231640"/>
                  <a:ext cx="358560" cy="3762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17375e"/>
                </a:solidFill>
                <a:ln w="25560">
                  <a:solidFill>
                    <a:srgbClr val="1737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Isosceles Triangle 70"/>
                <p:cNvSpPr/>
                <p:nvPr/>
              </p:nvSpPr>
              <p:spPr>
                <a:xfrm rot="5659200">
                  <a:off x="5014080" y="1509840"/>
                  <a:ext cx="360360" cy="3762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17375e"/>
                </a:solidFill>
                <a:ln w="25560">
                  <a:solidFill>
                    <a:srgbClr val="1737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Isosceles Triangle 71"/>
                <p:cNvSpPr/>
                <p:nvPr/>
              </p:nvSpPr>
              <p:spPr>
                <a:xfrm rot="12623400">
                  <a:off x="7040160" y="5111280"/>
                  <a:ext cx="360360" cy="3762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17375e"/>
                </a:solidFill>
                <a:ln w="25560">
                  <a:solidFill>
                    <a:srgbClr val="1737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Isosceles Triangle 72"/>
                <p:cNvSpPr/>
                <p:nvPr/>
              </p:nvSpPr>
              <p:spPr>
                <a:xfrm rot="7923600">
                  <a:off x="6603480" y="2280960"/>
                  <a:ext cx="360360" cy="3762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17375e"/>
                </a:solidFill>
                <a:ln w="25560">
                  <a:solidFill>
                    <a:srgbClr val="1737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Isosceles Triangle 73"/>
                <p:cNvSpPr/>
                <p:nvPr/>
              </p:nvSpPr>
              <p:spPr>
                <a:xfrm rot="18501600">
                  <a:off x="3242880" y="5538600"/>
                  <a:ext cx="360360" cy="3762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17375e"/>
                </a:solidFill>
                <a:ln w="25560">
                  <a:solidFill>
                    <a:srgbClr val="1737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Isosceles Triangle 74"/>
                <p:cNvSpPr/>
                <p:nvPr/>
              </p:nvSpPr>
              <p:spPr>
                <a:xfrm rot="13861800">
                  <a:off x="6027480" y="6001920"/>
                  <a:ext cx="360360" cy="3762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17375e"/>
                </a:solidFill>
                <a:ln w="25560">
                  <a:solidFill>
                    <a:srgbClr val="1737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Isosceles Triangle 75"/>
                <p:cNvSpPr/>
                <p:nvPr/>
              </p:nvSpPr>
              <p:spPr>
                <a:xfrm rot="16801200">
                  <a:off x="4813200" y="6260760"/>
                  <a:ext cx="360360" cy="3762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17375e"/>
                </a:solidFill>
                <a:ln w="25560">
                  <a:solidFill>
                    <a:srgbClr val="1737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Isosceles Triangle 76"/>
                <p:cNvSpPr/>
                <p:nvPr/>
              </p:nvSpPr>
              <p:spPr>
                <a:xfrm rot="10461600">
                  <a:off x="7319520" y="3868200"/>
                  <a:ext cx="360360" cy="3762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17375e"/>
                </a:solidFill>
                <a:ln w="25560">
                  <a:solidFill>
                    <a:srgbClr val="1737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" name="TextBox 47"/>
              <p:cNvSpPr/>
              <p:nvPr/>
            </p:nvSpPr>
            <p:spPr>
              <a:xfrm rot="15177000">
                <a:off x="2502720" y="4564080"/>
                <a:ext cx="1168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Site selec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TextBox 48"/>
              <p:cNvSpPr/>
              <p:nvPr/>
            </p:nvSpPr>
            <p:spPr>
              <a:xfrm rot="15543000">
                <a:off x="2585160" y="4059720"/>
                <a:ext cx="1549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Characterisa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TextBox 49"/>
              <p:cNvSpPr/>
              <p:nvPr/>
            </p:nvSpPr>
            <p:spPr>
              <a:xfrm rot="17272200">
                <a:off x="2543400" y="3156840"/>
                <a:ext cx="108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ypologi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TextBox 50"/>
              <p:cNvSpPr/>
              <p:nvPr/>
            </p:nvSpPr>
            <p:spPr>
              <a:xfrm rot="18132000">
                <a:off x="3078360" y="2994840"/>
                <a:ext cx="108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Problem 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TextBox 51"/>
              <p:cNvSpPr/>
              <p:nvPr/>
            </p:nvSpPr>
            <p:spPr>
              <a:xfrm rot="19540200">
                <a:off x="3205080" y="2266920"/>
                <a:ext cx="108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Option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TextBox 52"/>
              <p:cNvSpPr/>
              <p:nvPr/>
            </p:nvSpPr>
            <p:spPr>
              <a:xfrm rot="20122800">
                <a:off x="3803040" y="2362320"/>
                <a:ext cx="108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Entry point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TextBox 53"/>
              <p:cNvSpPr/>
              <p:nvPr/>
            </p:nvSpPr>
            <p:spPr>
              <a:xfrm rot="217200">
                <a:off x="4754520" y="2107800"/>
                <a:ext cx="10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Research tea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TextBox 54"/>
              <p:cNvSpPr/>
              <p:nvPr/>
            </p:nvSpPr>
            <p:spPr>
              <a:xfrm rot="907200">
                <a:off x="5308200" y="1892160"/>
                <a:ext cx="108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Modelin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TextBox 55"/>
              <p:cNvSpPr/>
              <p:nvPr/>
            </p:nvSpPr>
            <p:spPr>
              <a:xfrm rot="1968600">
                <a:off x="5461200" y="2403360"/>
                <a:ext cx="13129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Participatory evalua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TextBox 56"/>
              <p:cNvSpPr/>
              <p:nvPr/>
            </p:nvSpPr>
            <p:spPr>
              <a:xfrm rot="3493800">
                <a:off x="6319080" y="2859480"/>
                <a:ext cx="108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Adapta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TextBox 57"/>
              <p:cNvSpPr/>
              <p:nvPr/>
            </p:nvSpPr>
            <p:spPr>
              <a:xfrm rot="4278000">
                <a:off x="6038640" y="3435480"/>
                <a:ext cx="1263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Combina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TextBox 58"/>
              <p:cNvSpPr/>
              <p:nvPr/>
            </p:nvSpPr>
            <p:spPr>
              <a:xfrm rot="4933800">
                <a:off x="6460200" y="3499200"/>
                <a:ext cx="13129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Farm-level impact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TextBox 59"/>
              <p:cNvSpPr/>
              <p:nvPr/>
            </p:nvSpPr>
            <p:spPr>
              <a:xfrm rot="6523200">
                <a:off x="6014880" y="4361400"/>
                <a:ext cx="13111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Sustainability / resilienc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TextBox 60"/>
              <p:cNvSpPr/>
              <p:nvPr/>
            </p:nvSpPr>
            <p:spPr>
              <a:xfrm rot="6772200">
                <a:off x="6442920" y="4581000"/>
                <a:ext cx="1265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DS tool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TextBox 61"/>
              <p:cNvSpPr/>
              <p:nvPr/>
            </p:nvSpPr>
            <p:spPr>
              <a:xfrm rot="8275200">
                <a:off x="5905440" y="5429520"/>
                <a:ext cx="1265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Meta analysi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TextBox 62"/>
              <p:cNvSpPr/>
              <p:nvPr/>
            </p:nvSpPr>
            <p:spPr>
              <a:xfrm rot="9102000">
                <a:off x="5336280" y="5209920"/>
                <a:ext cx="12650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Forecast replicabilit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TextBox 63"/>
              <p:cNvSpPr/>
              <p:nvPr/>
            </p:nvSpPr>
            <p:spPr>
              <a:xfrm rot="10084200">
                <a:off x="4894200" y="5850000"/>
                <a:ext cx="12650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Validate replicabilit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TextBox 64"/>
              <p:cNvSpPr/>
              <p:nvPr/>
            </p:nvSpPr>
            <p:spPr>
              <a:xfrm rot="11631000">
                <a:off x="4036680" y="5483520"/>
                <a:ext cx="12650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Scaling approach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TextBox 65"/>
              <p:cNvSpPr/>
              <p:nvPr/>
            </p:nvSpPr>
            <p:spPr>
              <a:xfrm rot="12174000">
                <a:off x="3740760" y="5783760"/>
                <a:ext cx="12650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Aggregated impact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TextBox 66"/>
              <p:cNvSpPr/>
              <p:nvPr/>
            </p:nvSpPr>
            <p:spPr>
              <a:xfrm rot="13439400">
                <a:off x="3100680" y="5019480"/>
                <a:ext cx="13856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Implemntation suppor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TextBox 45"/>
            <p:cNvSpPr/>
            <p:nvPr/>
          </p:nvSpPr>
          <p:spPr>
            <a:xfrm rot="20589600">
              <a:off x="4019760" y="1876320"/>
              <a:ext cx="108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Synthes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5" name="Chart 122" descr=""/>
          <p:cNvPicPr/>
          <p:nvPr/>
        </p:nvPicPr>
        <p:blipFill>
          <a:blip r:embed="rId1"/>
          <a:stretch/>
        </p:blipFill>
        <p:spPr>
          <a:xfrm>
            <a:off x="2913120" y="2479680"/>
            <a:ext cx="4309920" cy="3173400"/>
          </a:xfrm>
          <a:prstGeom prst="rect">
            <a:avLst/>
          </a:prstGeom>
          <a:ln w="0">
            <a:noFill/>
          </a:ln>
        </p:spPr>
      </p:pic>
      <p:pic>
        <p:nvPicPr>
          <p:cNvPr id="96" name="Chart 123" descr=""/>
          <p:cNvPicPr/>
          <p:nvPr/>
        </p:nvPicPr>
        <p:blipFill>
          <a:blip r:embed="rId2"/>
          <a:stretch/>
        </p:blipFill>
        <p:spPr>
          <a:xfrm>
            <a:off x="2862360" y="2428920"/>
            <a:ext cx="4411440" cy="3274920"/>
          </a:xfrm>
          <a:prstGeom prst="rect">
            <a:avLst/>
          </a:prstGeom>
          <a:ln w="0">
            <a:noFill/>
          </a:ln>
        </p:spPr>
      </p:pic>
      <p:pic>
        <p:nvPicPr>
          <p:cNvPr id="97" name="Chart 124" descr=""/>
          <p:cNvPicPr/>
          <p:nvPr/>
        </p:nvPicPr>
        <p:blipFill>
          <a:blip r:embed="rId3"/>
          <a:stretch/>
        </p:blipFill>
        <p:spPr>
          <a:xfrm>
            <a:off x="2862360" y="2425680"/>
            <a:ext cx="4411440" cy="32749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33640" y="36000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Research Process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88098-AF28-4A99-B29D-A08A89F3EA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Box 79"/>
          <p:cNvSpPr/>
          <p:nvPr/>
        </p:nvSpPr>
        <p:spPr>
          <a:xfrm>
            <a:off x="3792600" y="2925720"/>
            <a:ext cx="12398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  <a:ea typeface="Calibri"/>
              </a:rPr>
              <a:t>RO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Calibri"/>
              </a:rPr>
              <a:t>Situation  analysis and programme-wide synthe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Box 80"/>
          <p:cNvSpPr/>
          <p:nvPr/>
        </p:nvSpPr>
        <p:spPr>
          <a:xfrm>
            <a:off x="5173560" y="3103560"/>
            <a:ext cx="1239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  <a:ea typeface="Calibri"/>
              </a:rPr>
              <a:t>RO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alibri"/>
                <a:ea typeface="Calibri"/>
              </a:rPr>
              <a:t>Integrated systems improv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81"/>
          <p:cNvSpPr/>
          <p:nvPr/>
        </p:nvSpPr>
        <p:spPr>
          <a:xfrm>
            <a:off x="4411800" y="4473720"/>
            <a:ext cx="1241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  <a:ea typeface="Calibri"/>
              </a:rPr>
              <a:t>RO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Calibri"/>
              </a:rPr>
              <a:t>Scaling and deliv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Types of Intervention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ledge and capacity strength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ols for targeting and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ols / documents to support farmer decision-m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cial cohe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munity level innovation to support peer-to-peer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moving constraints on collaboration and recipro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CA907-BAC1-4926-8C78-0D04FD683E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Types of Intervention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chnical adv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grating pulses into cereal-base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pitalising on tree-livestock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roved feed resourc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stitutional strength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ulti-stakeholder approaches for strengthening market function / service delivery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munity-based Policy Advoc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F24BE-C655-414C-9AE5-2E3CEC722A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Partnerships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D63D4-D20C-4F58-8A4D-2040C999D0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62699"/>
                </a:solidFill>
                <a:latin typeface="Arial"/>
              </a:rPr>
              <a:t>Research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CGIAR, NARS, Universities, NG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evelop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AGP initiatives, USAID, 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donor initiatives: DfID, ACIAR, EU, IF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Why Partnerships?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62699"/>
                </a:solidFill>
                <a:latin typeface="Arial"/>
              </a:rPr>
              <a:t>Strengthen research capacity / syner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62699"/>
                </a:solidFill>
                <a:latin typeface="Arial"/>
              </a:rPr>
              <a:t>Not re-inventing wheels or inventing new wheels with flat t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Grounding the research in development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Opportunities for sca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49715-C345-4E6F-BE5A-096F9F6844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09:32:33Z</dcterms:created>
  <dc:creator>sat</dc:creator>
  <dc:description/>
  <dc:language>en-US</dc:language>
  <cp:lastModifiedBy>Thorne, Peter (ILRI)</cp:lastModifiedBy>
  <dcterms:modified xsi:type="dcterms:W3CDTF">2012-09-18T05:07:45Z</dcterms:modified>
  <cp:revision>87</cp:revision>
  <dc:subject/>
  <dc:title>PowerPoint Presentation</dc:title>
</cp:coreProperties>
</file>